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F2528D-AA7F-476C-89CB-1AE456A607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67C9EA-9898-4CFE-8455-BCBE6498A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6AB847-A86C-4E3A-BCE4-D43ED45883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75D921-3DB0-418C-B9D6-A4218F5D46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7ABBE-12CE-4FED-A0F1-FC947035C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93715-B777-44EE-86F5-93477BE4C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D88C0-A928-4861-9F42-0E2FE7796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DCB90-2B21-4B91-9664-22CDE1AC6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947FE-B5AE-468E-90F8-69D2221BD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EB158-24E5-4330-870D-3AF9BCD41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248A8-A519-4336-A0E4-182FC650D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24875B-DE67-42ED-846B-9B630D7A1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BFEA5-AB50-4679-BC05-E91CD4EDE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69804-7EC5-48EC-97D2-678580B22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94E9E-09F6-497A-8F32-EEA4A9976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DBDD2-7B38-4467-B78A-700A2005A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FCA91-633A-47D4-A0C7-E4056697A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7E5D79-9D01-4EEA-AB37-A7BC007A8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74D3F4-F823-40C5-A434-AC2488BC2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6D0AE0-5A22-4B6A-9D44-977FEB368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964359-F3FC-4658-B6CA-EE7990F23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BF2923-0EF5-4DD8-9E69-6FA5B80CB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2DD7B2-9C82-4FD1-8CBE-0FACEE84D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E5F25E-EAE0-4B72-AE7C-8797C63F7E7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18FC-4CF5-41E6-9550-64414D454B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0B0D-5B5C-4630-850D-444C250A0F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464F-EC44-4D74-9F1A-574B5869D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7d"/>
                </a:solidFill>
                <a:latin typeface="Arial"/>
              </a:rPr>
              <a:t>Software Inspections - 2</a:t>
            </a:r>
            <a:endParaRPr b="0" lang="en-US" sz="5000" spc="-1" strike="noStrike">
              <a:solidFill>
                <a:srgbClr val="000000"/>
              </a:solidFill>
              <a:latin typeface="Arial"/>
            </a:endParaRPr>
          </a:p>
        </p:txBody>
      </p:sp>
      <p:sp>
        <p:nvSpPr>
          <p:cNvPr id="107" name="PlaceHolder 2"/>
          <p:cNvSpPr>
            <a:spLocks noGrp="1"/>
          </p:cNvSpPr>
          <p:nvPr>
            <p:ph type="subTitle"/>
          </p:nvPr>
        </p:nvSpPr>
        <p:spPr>
          <a:xfrm>
            <a:off x="1182600" y="3779640"/>
            <a:ext cx="6778800" cy="16556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16</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8DD4-8822-46A6-88FA-DAEF20D90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Products</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specification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ification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document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case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ther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B9C7-9F9A-4B75-AF38-DC87CFC7E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Steps - 1</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inspection participants a background and understanding, when warranted, of the scheduled inspection material</a:t>
            </a:r>
            <a:endParaRPr b="0" lang="en-US" sz="28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time for the inspection participants to sufficiently prepare for the inspection meeting and list potential defects</a:t>
            </a:r>
            <a:endParaRPr b="0" lang="en-US" sz="28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D8CD-5F7C-4811-A4D4-A3904EF64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Steps - 2</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meeting</a:t>
            </a:r>
            <a:endParaRPr b="0" lang="en-US" sz="28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s defects before work product is passed into the next project stage</a:t>
            </a:r>
            <a:endParaRPr b="0" lang="en-US" sz="2400" spc="-1" strike="noStrike">
              <a:solidFill>
                <a:srgbClr val="000000"/>
              </a:solidFill>
              <a:latin typeface="Arial"/>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ork</a:t>
            </a:r>
            <a:endParaRPr b="0" lang="en-US" sz="28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s identified defects and resolves any open issues noted during the inspection</a:t>
            </a:r>
            <a:endParaRPr b="0" lang="en-US" sz="2400" spc="-1" strike="noStrike">
              <a:solidFill>
                <a:srgbClr val="000000"/>
              </a:solidFill>
              <a:latin typeface="Arial"/>
            </a:endParaRPr>
          </a:p>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up</a:t>
            </a:r>
            <a:endParaRPr b="0" lang="en-US" sz="2800" spc="-1" strike="noStrike">
              <a:solidFill>
                <a:srgbClr val="000000"/>
              </a:solidFill>
              <a:latin typeface="Arial"/>
            </a:endParaRPr>
          </a:p>
          <a:p>
            <a:pPr lvl="1" marL="720720" indent="-2772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es that all defects and open issues have been adequately fixed, resolved, and closed 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7B68-ECD1-4817-A98B-81CB5062A2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spection Steps - 1</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and scheduling</a:t>
            </a:r>
            <a:endParaRPr b="0" lang="en-US" sz="32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adequate time and resources are allocated for inspections and to establish schedules in the project for work products to be inspected, to designate the inspection team, and to ensure the entry criteria are satisfied</a:t>
            </a:r>
            <a:endParaRPr b="0" lang="en-US" sz="2800" spc="-1" strike="noStrike">
              <a:solidFill>
                <a:srgbClr val="000000"/>
              </a:solidFill>
              <a:latin typeface="Arial"/>
            </a:endParaRPr>
          </a:p>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ecording</a:t>
            </a:r>
            <a:endParaRPr b="0" lang="en-US" sz="32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ord the data about the defects and conduct of the inspection</a:t>
            </a:r>
            <a:endParaRPr b="0" lang="en-US" sz="28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A56A-A0F3-4A30-946E-FD2F1731D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spection Steps - 2</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meeting</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held after the inspection meeting, to begin defect prevention activities</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on meeting</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held periodically after sets of inspections have been performed to determine probable causes for selected defect types, instances, or patte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85DD-FE63-4301-8936-027753A52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now discuss a modeling technique, which can be used to model inspe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chnique is known as Entry-Task-Validation/Verification-eXit (ETVX) techni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E963-4238-449D-9FFF-43D7AB1C71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VX Representation</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expressed as a set of interconnected activities each of which has four sets of attribut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y (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Verification (V)</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5832-3D75-4856-96FE-0053660EED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ry</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ry section defines the entry criteria that must be satisfied for the process to be initiated, and list the work products that must be available as inputs to th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2EFC-F8B8-49A8-8FA7-88F21D8346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s</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sk section defines work to be carried in performing the process. The order of the task is generally, but not strictly sequential. Some tasks may be concurrent with other ta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E0A3-E315-4842-91C9-3C13FC5D8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ation/Verification</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idation/verification section defines steps for validating/verifying that the process has been properly executed, and that the associated work products meet project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A6EA-5F63-4100-9823-88B0D8847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a:t>
            </a: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315360" indent="-3153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software inspections as very important defect removal technique</a:t>
            </a:r>
            <a:endParaRPr b="0" lang="en-US" sz="2800" spc="-1" strike="noStrike">
              <a:solidFill>
                <a:srgbClr val="000000"/>
              </a:solidFill>
              <a:latin typeface="Arial"/>
            </a:endParaRPr>
          </a:p>
          <a:p>
            <a:pPr marL="315360" indent="-3153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a very strong case with the help of published data that software inspections reduce the overall cost and schedule of the software project</a:t>
            </a:r>
            <a:endParaRPr b="0" lang="en-US" sz="2800" spc="-1" strike="noStrike">
              <a:solidFill>
                <a:srgbClr val="000000"/>
              </a:solidFill>
              <a:latin typeface="Arial"/>
            </a:endParaRPr>
          </a:p>
          <a:p>
            <a:pPr marL="315360" indent="-3153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ave many ancillary benefits as well: employee morale, customer satisfaction, shorter time to market, as well as long-term financial strength of the organization. We’ll discuss them today al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3EA2-51EA-4150-9F0F-357778C80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t</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it section defines the exit criteria that must be satisfied for the process to be terminated. The exit criteria usually define completion and verification work products, in terms of qualitative aspects of the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6590-06D0-4866-A8B3-7FDA97940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TVX technique indicates the relationship and flow among the four aspects of an activity and between activitie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ion of formal entry, exit, and criteria go back to the evolution of the waterfall development proces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a is that every process step, </a:t>
            </a:r>
            <a:r>
              <a:rPr b="1" lang="en-US" sz="2800" spc="-1" strike="noStrike">
                <a:solidFill>
                  <a:srgbClr val="000000"/>
                </a:solidFill>
                <a:latin typeface="Arial"/>
              </a:rPr>
              <a:t>inspection</a:t>
            </a:r>
            <a:r>
              <a:rPr b="0" lang="en-US" sz="2800" spc="-1" strike="noStrike">
                <a:solidFill>
                  <a:srgbClr val="000000"/>
                </a:solidFill>
                <a:latin typeface="Arial"/>
              </a:rPr>
              <a:t>, function test, or software design has a precise entry and exit crite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2D38-7845-4BAF-AD3F-DBF760ED08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ETVX</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VX is a task-based mode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ask must be explicitly defin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cells can be combined to create pro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B063-B748-4A9A-88A3-4198B3D452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TVX Process Definition Paradigm</a:t>
            </a:r>
            <a:endParaRPr b="0" lang="en-US" sz="4000" spc="-1" strike="noStrike">
              <a:solidFill>
                <a:srgbClr val="000000"/>
              </a:solidFill>
              <a:latin typeface="Arial"/>
            </a:endParaRPr>
          </a:p>
        </p:txBody>
      </p:sp>
      <p:sp>
        <p:nvSpPr>
          <p:cNvPr id="173" name="Rectangle 5"/>
          <p:cNvSpPr/>
          <p:nvPr/>
        </p:nvSpPr>
        <p:spPr>
          <a:xfrm>
            <a:off x="1523880" y="2514600"/>
            <a:ext cx="6096240" cy="281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Line 6"/>
          <p:cNvSpPr/>
          <p:nvPr/>
        </p:nvSpPr>
        <p:spPr>
          <a:xfrm>
            <a:off x="2895480" y="251460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7"/>
          <p:cNvSpPr/>
          <p:nvPr/>
        </p:nvSpPr>
        <p:spPr>
          <a:xfrm>
            <a:off x="6248520" y="251460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8"/>
          <p:cNvSpPr/>
          <p:nvPr/>
        </p:nvSpPr>
        <p:spPr>
          <a:xfrm>
            <a:off x="2895480" y="3886200"/>
            <a:ext cx="335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9"/>
          <p:cNvSpPr/>
          <p:nvPr/>
        </p:nvSpPr>
        <p:spPr>
          <a:xfrm>
            <a:off x="2362320" y="32004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0"/>
          <p:cNvSpPr/>
          <p:nvPr/>
        </p:nvSpPr>
        <p:spPr>
          <a:xfrm>
            <a:off x="5638680" y="45720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Text Box 11"/>
          <p:cNvSpPr/>
          <p:nvPr/>
        </p:nvSpPr>
        <p:spPr>
          <a:xfrm>
            <a:off x="1982880" y="359568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180" name="Text Box 12"/>
          <p:cNvSpPr/>
          <p:nvPr/>
        </p:nvSpPr>
        <p:spPr>
          <a:xfrm>
            <a:off x="6744240" y="35956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81" name="Text Box 13"/>
          <p:cNvSpPr/>
          <p:nvPr/>
        </p:nvSpPr>
        <p:spPr>
          <a:xfrm>
            <a:off x="4381560" y="289548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182" name="Text Box 14"/>
          <p:cNvSpPr/>
          <p:nvPr/>
        </p:nvSpPr>
        <p:spPr>
          <a:xfrm>
            <a:off x="4381920" y="43578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endParaRPr b="0" lang="en-US" sz="2800" spc="-1" strike="noStrike">
              <a:solidFill>
                <a:srgbClr val="000000"/>
              </a:solidFill>
              <a:latin typeface="Times New Roman"/>
            </a:endParaRPr>
          </a:p>
        </p:txBody>
      </p:sp>
      <p:sp>
        <p:nvSpPr>
          <p:cNvPr id="183" name="Arc 17"/>
          <p:cNvSpPr/>
          <p:nvPr/>
        </p:nvSpPr>
        <p:spPr>
          <a:xfrm>
            <a:off x="4191120" y="3581280"/>
            <a:ext cx="761760" cy="53352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C433-62F0-4B6A-8F75-1D95922D1B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cture that you have just seen shows the ETVX mode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now apply this model to the inspection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9CFC-A7E3-4990-96D9-F8207C6C58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in the Inspection Process</a:t>
            </a:r>
            <a:endParaRPr b="0" lang="en-US" sz="4000" spc="-1" strike="noStrike">
              <a:solidFill>
                <a:srgbClr val="000000"/>
              </a:solidFill>
              <a:latin typeface="Arial"/>
            </a:endParaRPr>
          </a:p>
        </p:txBody>
      </p:sp>
      <p:sp>
        <p:nvSpPr>
          <p:cNvPr id="189" name="Rectangle 3"/>
          <p:cNvSpPr/>
          <p:nvPr/>
        </p:nvSpPr>
        <p:spPr>
          <a:xfrm>
            <a:off x="990720" y="1447920"/>
            <a:ext cx="708660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Line 4"/>
          <p:cNvSpPr/>
          <p:nvPr/>
        </p:nvSpPr>
        <p:spPr>
          <a:xfrm>
            <a:off x="2895480" y="144792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5"/>
          <p:cNvSpPr/>
          <p:nvPr/>
        </p:nvSpPr>
        <p:spPr>
          <a:xfrm>
            <a:off x="6248520" y="144792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6"/>
          <p:cNvSpPr/>
          <p:nvPr/>
        </p:nvSpPr>
        <p:spPr>
          <a:xfrm>
            <a:off x="2895480" y="3886200"/>
            <a:ext cx="335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7"/>
          <p:cNvSpPr/>
          <p:nvPr/>
        </p:nvSpPr>
        <p:spPr>
          <a:xfrm>
            <a:off x="2666880" y="1905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Arc 13"/>
          <p:cNvSpPr/>
          <p:nvPr/>
        </p:nvSpPr>
        <p:spPr>
          <a:xfrm>
            <a:off x="4191120" y="3581280"/>
            <a:ext cx="761760" cy="53352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Line 14"/>
          <p:cNvSpPr/>
          <p:nvPr/>
        </p:nvSpPr>
        <p:spPr>
          <a:xfrm>
            <a:off x="6019920" y="4724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Text Box 15"/>
          <p:cNvSpPr/>
          <p:nvPr/>
        </p:nvSpPr>
        <p:spPr>
          <a:xfrm>
            <a:off x="1064880" y="2300400"/>
            <a:ext cx="186300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lic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cedur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sourc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ining</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erator</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spectors</a:t>
            </a:r>
            <a:endParaRPr b="0" lang="en-US" sz="2000" spc="-1" strike="noStrike">
              <a:solidFill>
                <a:srgbClr val="000000"/>
              </a:solidFill>
              <a:latin typeface="Times New Roman"/>
            </a:endParaRPr>
          </a:p>
        </p:txBody>
      </p:sp>
      <p:sp>
        <p:nvSpPr>
          <p:cNvPr id="197" name="Text Box 16"/>
          <p:cNvSpPr/>
          <p:nvPr/>
        </p:nvSpPr>
        <p:spPr>
          <a:xfrm>
            <a:off x="1523160" y="16002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198" name="Text Box 17"/>
          <p:cNvSpPr/>
          <p:nvPr/>
        </p:nvSpPr>
        <p:spPr>
          <a:xfrm>
            <a:off x="6760080" y="160020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t</a:t>
            </a:r>
            <a:endParaRPr b="0" lang="en-US" sz="2400" spc="-1" strike="noStrike">
              <a:solidFill>
                <a:srgbClr val="000000"/>
              </a:solidFill>
              <a:latin typeface="Times New Roman"/>
            </a:endParaRPr>
          </a:p>
        </p:txBody>
      </p:sp>
      <p:sp>
        <p:nvSpPr>
          <p:cNvPr id="199" name="Text Box 18"/>
          <p:cNvSpPr/>
          <p:nvPr/>
        </p:nvSpPr>
        <p:spPr>
          <a:xfrm>
            <a:off x="6215400" y="2300400"/>
            <a:ext cx="189504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ord proc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ord def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wor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leted</a:t>
            </a:r>
            <a:endParaRPr b="0" lang="en-US" sz="2000" spc="-1" strike="noStrike">
              <a:solidFill>
                <a:srgbClr val="000000"/>
              </a:solidFill>
              <a:latin typeface="Times New Roman"/>
            </a:endParaRPr>
          </a:p>
        </p:txBody>
      </p:sp>
      <p:sp>
        <p:nvSpPr>
          <p:cNvPr id="200" name="Text Box 19"/>
          <p:cNvSpPr/>
          <p:nvPr/>
        </p:nvSpPr>
        <p:spPr>
          <a:xfrm>
            <a:off x="3203280" y="1981080"/>
            <a:ext cx="274536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spections are planned</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form inspectio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ord data on conduc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ord data on result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s are documented</a:t>
            </a:r>
            <a:endParaRPr b="0" lang="en-US" sz="2000" spc="-1" strike="noStrike">
              <a:solidFill>
                <a:srgbClr val="000000"/>
              </a:solidFill>
              <a:latin typeface="Times New Roman"/>
            </a:endParaRPr>
          </a:p>
        </p:txBody>
      </p:sp>
      <p:sp>
        <p:nvSpPr>
          <p:cNvPr id="201" name="Text Box 20"/>
          <p:cNvSpPr/>
          <p:nvPr/>
        </p:nvSpPr>
        <p:spPr>
          <a:xfrm>
            <a:off x="4170240" y="16002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s</a:t>
            </a:r>
            <a:endParaRPr b="0" lang="en-US" sz="2400" spc="-1" strike="noStrike">
              <a:solidFill>
                <a:srgbClr val="000000"/>
              </a:solidFill>
              <a:latin typeface="Times New Roman"/>
            </a:endParaRPr>
          </a:p>
        </p:txBody>
      </p:sp>
      <p:sp>
        <p:nvSpPr>
          <p:cNvPr id="202" name="Text Box 21"/>
          <p:cNvSpPr/>
          <p:nvPr/>
        </p:nvSpPr>
        <p:spPr>
          <a:xfrm>
            <a:off x="3012120" y="4708440"/>
            <a:ext cx="30880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views with managemen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spection activi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asured</a:t>
            </a:r>
            <a:endParaRPr b="0" lang="en-US" sz="2000" spc="-1" strike="noStrike">
              <a:solidFill>
                <a:srgbClr val="000000"/>
              </a:solidFill>
              <a:latin typeface="Times New Roman"/>
            </a:endParaRPr>
          </a:p>
        </p:txBody>
      </p:sp>
      <p:sp>
        <p:nvSpPr>
          <p:cNvPr id="203" name="Text Box 22"/>
          <p:cNvSpPr/>
          <p:nvPr/>
        </p:nvSpPr>
        <p:spPr>
          <a:xfrm>
            <a:off x="3043440" y="4191120"/>
            <a:ext cx="30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ion/Verification</a:t>
            </a:r>
            <a:endParaRPr b="0" lang="en-US" sz="2400" spc="-1" strike="noStrike">
              <a:solidFill>
                <a:srgbClr val="000000"/>
              </a:solidFill>
              <a:latin typeface="Times New Roman"/>
            </a:endParaRPr>
          </a:p>
        </p:txBody>
      </p:sp>
      <p:sp>
        <p:nvSpPr>
          <p:cNvPr id="204" name="Text Box 23"/>
          <p:cNvSpPr/>
          <p:nvPr/>
        </p:nvSpPr>
        <p:spPr>
          <a:xfrm>
            <a:off x="79920" y="1714680"/>
            <a:ext cx="858960" cy="946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pected</a:t>
            </a:r>
            <a:endParaRPr b="0" lang="en-US" sz="1400" spc="-1" strike="noStrike">
              <a:solidFill>
                <a:srgbClr val="000000"/>
              </a:solidFill>
              <a:latin typeface="Times New Roman"/>
            </a:endParaRPr>
          </a:p>
        </p:txBody>
      </p:sp>
      <p:sp>
        <p:nvSpPr>
          <p:cNvPr id="205" name="Line 24"/>
          <p:cNvSpPr/>
          <p:nvPr/>
        </p:nvSpPr>
        <p:spPr>
          <a:xfrm>
            <a:off x="533520" y="26668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25"/>
          <p:cNvSpPr/>
          <p:nvPr/>
        </p:nvSpPr>
        <p:spPr>
          <a:xfrm>
            <a:off x="53352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27"/>
          <p:cNvSpPr/>
          <p:nvPr/>
        </p:nvSpPr>
        <p:spPr>
          <a:xfrm>
            <a:off x="8152560" y="4267080"/>
            <a:ext cx="867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pect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a:t>
            </a:r>
            <a:endParaRPr b="0" lang="en-US" sz="1400" spc="-1" strike="noStrike">
              <a:solidFill>
                <a:srgbClr val="000000"/>
              </a:solidFill>
              <a:latin typeface="Times New Roman"/>
            </a:endParaRPr>
          </a:p>
        </p:txBody>
      </p:sp>
      <p:sp>
        <p:nvSpPr>
          <p:cNvPr id="208" name="Line 28"/>
          <p:cNvSpPr/>
          <p:nvPr/>
        </p:nvSpPr>
        <p:spPr>
          <a:xfrm>
            <a:off x="8077320" y="3505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29"/>
          <p:cNvSpPr/>
          <p:nvPr/>
        </p:nvSpPr>
        <p:spPr>
          <a:xfrm>
            <a:off x="853452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DF52-5A50-44D2-9D4E-098DF3476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illary Purposes</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 in productivity</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and increased knowledge sharing</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backup/replacement capability</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improvement</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product quality visibility</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re-development</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team spi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5CF1-DE4A-4354-9F15-089F1B48B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ivity Improvement</a:t>
            </a:r>
            <a:endParaRPr b="0" lang="en-US" sz="4400" spc="-1" strike="noStrike">
              <a:solidFill>
                <a:srgbClr val="000000"/>
              </a:solidFill>
              <a:latin typeface="Arial"/>
            </a:endParaRPr>
          </a:p>
        </p:txBody>
      </p:sp>
      <p:sp>
        <p:nvSpPr>
          <p:cNvPr id="21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gan calculated a 23% productivity improvement during the VTAM study – one of the first projects in which inspections were us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 improvement in productivity is the most immediate effect of purging errors from the produc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Fagan</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spection reduces the development cost during test by 50%” based on IBM studi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r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7193-4A77-4E48-9339-7F82A58DBA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 and Increased Knowledge Sharing</a:t>
            </a:r>
            <a:endParaRPr b="0" lang="en-US" sz="4000" spc="-1" strike="noStrike">
              <a:solidFill>
                <a:srgbClr val="000000"/>
              </a:solidFill>
              <a:latin typeface="Arial"/>
            </a:endParaRPr>
          </a:p>
        </p:txBody>
      </p:sp>
      <p:sp>
        <p:nvSpPr>
          <p:cNvPr id="2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activ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activ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 mee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meeting (causes of de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on meet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BEE3-9D1C-48E1-8C34-BE47CE034B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Up/Replacement Capability - 1</a:t>
            </a:r>
            <a:endParaRPr b="0" lang="en-US" sz="40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rganizations have high turnover rates, and in many cases only a few people (or even one person) has the required knowledge of a product or key parts of a produ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urnover is high, knowledge can literally walking out of the doo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itigate this risk, some organizations have elected to inspect 100% of all work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AC28-E64C-4140-879D-DD57B33354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continue our discussion on software inspe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ded our last lecture on the pre-conditions for software inspections, and we’ll today start our discussion with some success factors that worked for many compan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B62E-D28D-4A8A-BCAE-8A5EF968D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Up/Replacement Capability - 2</a:t>
            </a:r>
            <a:endParaRPr b="0" lang="en-US" sz="4000" spc="-1" strike="noStrike">
              <a:solidFill>
                <a:srgbClr val="000000"/>
              </a:solidFill>
              <a:latin typeface="Arial"/>
            </a:endParaRPr>
          </a:p>
        </p:txBody>
      </p:sp>
      <p:sp>
        <p:nvSpPr>
          <p:cNvPr id="224"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they are providing backup, and this is ‘dynamic backup’</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se situation, inspections are used to spread the knowledge as fast and as far as possibl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ducation also provides a flexibility to react quicker when there are customer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6497-5F44-4D98-BA1B-8FD591390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Up/Replacement Capability - 3</a:t>
            </a:r>
            <a:endParaRPr b="0" lang="en-US" sz="40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situations, maintenance of the work product may be transferred to a new organization or a subcontractor</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new people need to be educated and trained on the work products as fast as possible</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inspections are used to create backups or replacement owners of work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E95E-DC1C-4BD7-98CF-7A2AEBEB5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Up/Replacement Capability - 4</a:t>
            </a:r>
            <a:endParaRPr b="0" lang="en-US" sz="4000" spc="-1" strike="noStrike">
              <a:solidFill>
                <a:srgbClr val="000000"/>
              </a:solidFill>
              <a:latin typeface="Arial"/>
            </a:endParaRPr>
          </a:p>
        </p:txBody>
      </p:sp>
      <p:sp>
        <p:nvSpPr>
          <p:cNvPr id="2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oice for when to consider these types of inspections is determined by</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backlog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request backlog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ies for re-engineering</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mitigation for volatile product section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over rat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ment 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730B-D95D-4C34-8BD7-466509591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Up/Replacement Capability - 5</a:t>
            </a:r>
            <a:endParaRPr b="0" lang="en-US" sz="4000" spc="-1" strike="noStrike">
              <a:solidFill>
                <a:srgbClr val="000000"/>
              </a:solidFill>
              <a:latin typeface="Arial"/>
            </a:endParaRPr>
          </a:p>
        </p:txBody>
      </p:sp>
      <p:sp>
        <p:nvSpPr>
          <p:cNvPr id="2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 successful for in these inspections, the author of the work product has to be pres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spections broaden the knowledge base of the project in the group, create potential backup programmers for each module, and better inform the testers of the functions they are to tes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r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501A-06F3-41F0-925D-E5204B832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Improvement</a:t>
            </a: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s gathered during the inspection and later analyzed to understand the process of doing the inspection and later to improve i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9999cc"/>
                </a:solidFill>
                <a:latin typeface="Arial"/>
              </a:rPr>
              <a:t>Say something on time availabilit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DD8B-005A-4293-B7CC-A82CFE400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Product Quality Visibility</a:t>
            </a: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the work product and that of the software product starts to become clear in the early stages of the software development life cy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59EE-F546-43CA-AD07-E60778E2F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 Re-Development</a:t>
            </a:r>
            <a:endParaRPr b="0" lang="en-US" sz="4400" spc="-1" strike="noStrike">
              <a:solidFill>
                <a:srgbClr val="000000"/>
              </a:solidFill>
              <a:latin typeface="Arial"/>
            </a:endParaRPr>
          </a:p>
        </p:txBody>
      </p:sp>
      <p:sp>
        <p:nvSpPr>
          <p:cNvPr id="2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 with multiple releases can have high volumes of changes in some ar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ome work products with high defect rates may have to be re-engineer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are “a very good mechanism for highlighting and prioritizing candidate areas for enhanc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3C11-26EE-4079-A881-9EF01B24C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Team Spirit</a:t>
            </a: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review process also promotes team building. It becomes one of the first steps toward establishing a good development team, by substituting an environment where programmers work alone throughout their careers, for a programming team environment in which each individual feels free to discuss and critique everyone else’s program. Implicit in the concept of a team is the notion of working closely together, reading each other’s work, sharing responsibilities, learning each other’s idiosyncrasies both on technical and personal level, and accepting altogether as a group shared responsibility for the product where each member can expect similar rewards if the project is a success and similar penalties if the project f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0BF9-54DF-4120-9D67-494351711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 Inspections Fit in Software Development Process?</a:t>
            </a:r>
            <a:endParaRPr b="0" lang="en-US" sz="4000" spc="-1" strike="noStrike">
              <a:solidFill>
                <a:srgbClr val="000000"/>
              </a:solidFill>
              <a:latin typeface="Arial"/>
            </a:endParaRPr>
          </a:p>
        </p:txBody>
      </p:sp>
      <p:sp>
        <p:nvSpPr>
          <p:cNvPr id="2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E0DE-C93B-4686-9577-301CD711A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st of Inspections - 1</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cost for every activity during  project life cycle. The cost is determined by many factors:</a:t>
            </a:r>
            <a:endParaRPr b="0" lang="en-US" sz="32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bility of programmers performing the activity</a:t>
            </a:r>
            <a:endParaRPr b="0" lang="en-US" sz="28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ined process for the activity</a:t>
            </a:r>
            <a:endParaRPr b="0" lang="en-US" sz="28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ility of the input</a:t>
            </a:r>
            <a:endParaRPr b="0" lang="en-US" sz="28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have a cost al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7D29-D1E5-44F7-A93C-06ABBE0BBF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Factors - 1</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pt to the basics</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ed teams rather than individuals</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a policy that inspections are safe</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ed the proven method, before adapting or tailoring it</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ve proper time for inspections to take ro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6D9A-4A7F-4491-9D7E-17632358C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st of Inspections - 2</a:t>
            </a:r>
            <a:endParaRPr b="0" lang="en-US" sz="4400" spc="-1" strike="noStrike">
              <a:solidFill>
                <a:srgbClr val="000000"/>
              </a:solidFill>
              <a:latin typeface="Arial"/>
            </a:endParaRPr>
          </a:p>
        </p:txBody>
      </p:sp>
      <p:sp>
        <p:nvSpPr>
          <p:cNvPr id="254"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spent on inspections is an investment. You inspect now, you invest now, and then you reap the benefits down the line</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n should only be when the inspections are performed for the first time</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cost question is removed from management’s thinking, the time needed up front in a project is no longer a conce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0CA2-62B2-493B-A216-41011EFD34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 in Hours/Defect During Code Inspections</a:t>
            </a:r>
            <a:endParaRPr b="0" lang="en-US" sz="4000" spc="-1" strike="noStrike">
              <a:solidFill>
                <a:srgbClr val="000000"/>
              </a:solidFill>
              <a:latin typeface="Arial"/>
            </a:endParaRPr>
          </a:p>
        </p:txBody>
      </p:sp>
      <p:graphicFrame>
        <p:nvGraphicFramePr>
          <p:cNvPr id="257" name=""/>
          <p:cNvGraphicFramePr/>
          <p:nvPr/>
        </p:nvGraphicFramePr>
        <p:xfrm>
          <a:off x="457200" y="1981080"/>
          <a:ext cx="8229600" cy="4140360"/>
        </p:xfrm>
        <a:graphic>
          <a:graphicData uri="http://schemas.openxmlformats.org/drawingml/2006/table">
            <a:tbl>
              <a:tblPr/>
              <a:tblGrid>
                <a:gridCol w="4114800"/>
                <a:gridCol w="4114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RS/DEF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amp;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 – 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 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P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 2.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l-Northe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T Industr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C6F1-D9E4-4333-BFAC-78B8BECCFF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Inspections by Ronald A. Radice, Tata-McGraw Hill, 2003 (Chapter 2)</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A Practioner’s Approach by Roger S. Press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1D0D-9FD9-4C58-AF00-AB6D41AF2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Factors - 2</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d and used the data resulting from inspections</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t on their own successes</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what was not necessary to inspect</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ed the performance of inspections</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the success</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cated budget and time for inspe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F4BF-F432-4E08-B37A-30809964D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pection is most successful whe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eam members treat it as a cooperative effort to find and remove defects as early as possible during development activit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ors with good domain knowledge of the material are available for the inspec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ors are trained in the inspection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DA02-26A3-4371-8E35-976CAD730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succeed to varying degrees even when these three conditions are not me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ness may not be as g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FFC9-3192-4B2A-9537-1F7E4DB25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ust always be remembered that inspection data must not be used to evaluate the performance or capability of the work product produc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evels of management must accept this value, practice it, and communicate the commitment to all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2ED6-7EFD-4530-90D8-C324C4F97C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pection uses a checklist to prepare for the inspection and to verify the work product against historical, repetitive, and critical defect types within the domain of the project</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pection is used to determine the suitability of the work product to continue into the next life cycle stage by either “passing” or “failing”</a:t>
            </a:r>
            <a:endParaRPr b="0" lang="en-US" sz="28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work product fails, it should be repaired and potentially re-inspec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5:43:24Z</dcterms:created>
  <dc:creator>Ghulam Ahmad Farrukh</dc:creator>
  <dc:description/>
  <dc:language>en-US</dc:language>
  <cp:lastModifiedBy>ahmadmohsin</cp:lastModifiedBy>
  <dcterms:modified xsi:type="dcterms:W3CDTF">2009-05-30T04:25:16Z</dcterms:modified>
  <cp:revision>240</cp:revision>
  <dc:subject/>
  <dc:title>Software Inspections</dc:title>
</cp:coreProperties>
</file>